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9CB-CE92-4444-9668-92F6FF13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B12-E602-4397-911B-CDCCCB8A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7CA2A-0C13-4AB3-9518-091C5D32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DAD54-F887-4240-BC04-A1A7C0C3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DE6AF-770E-4D96-92B5-5B276CDC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FC16A-3A5D-4614-97FF-1D1557CF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55439-C6E2-4D49-8B36-318EE1C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71126-9010-4056-9784-4CEAB92A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1F0F0-7707-4A72-A039-FC9F0930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65664-F354-4CF3-9712-C29A9FAF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D7D86-C096-42E9-B187-F7D7F291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A078E-5180-4975-8168-2FB1C0B3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89A-66C0-4362-AC32-055AB889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C22A9D-7231-4608-BEAE-BBEB291F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E7635-0779-4E6E-A853-EF2B5D16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13F6E-7F0E-4642-8E50-0C17BF8E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2F410-1F12-4D89-9D18-079A8CD8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35C5B-BAE5-45DC-84AD-38EB90F9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E567B-6B58-4CAB-8D66-51F6F9C3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CB7E9-023E-4409-BF58-E817A80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8D43D-593D-4726-BD08-D9BAE96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6A95F9-EAAE-438B-AD21-78536F27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2747D-0FD7-43AB-AFC6-F88330E3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285-DA6E-4B08-BD77-68DD019E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3FC8A-541F-45ED-ACA6-5419AC47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E9DFD-E4F5-4C73-8C94-596CDF96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4CAE5-8606-4C46-AFC8-8468FC07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67AF8-50AB-4D84-9B8C-4D8AA4C6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BC402-C673-47D8-A9D8-756AF16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038C8-A5A8-4C2B-8E5B-BDDCDD37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367CF-F15F-4035-A455-89AABEA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5E213-4F4B-4383-A07B-6A161B60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47F8A-D85E-4429-B02F-E5DE67D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2629A-6365-49AD-9ECD-2C95AB64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5863-E884-4C64-BA6B-827CCE74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8C70E-EF98-4651-94FE-BDAAB350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05D91-4B9E-4241-A385-FA61E805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98A95-7134-41E1-87AA-0133AE1F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2119A-0702-49A0-9395-CE304008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DDBA1-AF7A-4134-A86A-4FDB8EF1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77B3A-6D11-408F-9DAB-3DB6A55D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3B15C-A630-471F-A998-FACE706C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9A018-C34C-4051-BF56-5B8F7978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D847C-D3AD-4F78-8AB1-227D98FD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963BC-A678-49A7-AE72-B6163C0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33E-657B-4B3A-8ADE-9266391E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22346-461F-479D-93EA-30EC04A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5F2ED-E745-4577-BDA0-25FAB1AC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44DE2-F102-4D1C-B99D-B7601F6C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D22FD-4CCD-44F0-80C9-3C377E9E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AA28B-4E8B-4C79-ADDD-64E5E697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FE7-CA86-43FC-9683-3EB32FF1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579C-686C-4313-9F69-0827252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92C7-25B4-4DB0-B819-B4A6AC34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ACBF-D822-4907-8844-BAAC03A2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C2F9-E9AE-454F-85E5-E9B6002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CF7-F7B3-4025-9D31-83275E16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D29D-7AE2-48B9-B0F7-19093E9A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2BF0-5B2D-4716-94A0-3FA06E3F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A3C0-109D-422A-B42D-D5809F91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F6A6-7660-4E16-8615-1E715207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9A20-3FF8-4850-9F69-B4E18498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4604-B980-4047-986A-3383B55D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7D05-AB07-43A3-9D50-4DE58230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D4D0-A353-463F-A604-092C1BBC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549D-32F7-45FC-B626-38CFA8AB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E4E2-0FCA-4B22-B5FF-416FB43B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303-379A-402B-9237-0EE0805A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1C78-4E4E-4785-9EEF-89DCC0DD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4E42-1153-4349-A857-64CBC8CC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1AED-93F0-417D-AC59-2073FB7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6DD69-85A3-4CC6-BDAF-CFC38B7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DC0B-5D41-488D-9748-91A8CAB9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FB74-81EA-46A7-AFF3-5664AF09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4040F-D79C-4420-9D2C-C2F568C2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17FD-1ADC-4EBE-AF87-2C966E2B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32811-DBA3-4964-B8A0-6E7B29AA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8C68-1E40-43A0-96D0-66506903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A2D-FEB7-4090-862F-804E2E28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8718C-3B2B-494D-840D-48EC8896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661C2-C07C-4C53-AEB4-6BFB72D7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19E15-8BDA-4FCC-917E-511C73E7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9BB8E-E417-4683-B649-25D71B4A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2643-15B3-43E5-834B-832D4815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3A2D-6FD2-41C2-9CAD-AB5DC1C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AB1C0-38A2-406C-967D-14A972E3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E046-FCE7-4AFB-B29E-EDB44F8A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02634-1C8F-460B-85D5-752B4FD9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A665-7209-48BE-86BF-BB331E67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AB7-9F39-4467-83E4-99092087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B8BA-EBC8-4F6A-BB9E-D9C4CBED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AF4C-CE62-4837-AFC4-417B002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991D-5791-4C24-9D12-9D6842C1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16484-FDCE-45CE-9D1A-F1553AA6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C5694-8CD4-40A4-9088-6EAD57FB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09B6-42B2-4F40-8C7E-DD49A4C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1A3F2-F574-4D03-8E9E-5BEE5F1F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D6A04-101E-4A30-8D03-11747FE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A9586-6AED-4860-A5DC-63EA4C39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23E4-4F2B-4970-9F3C-25164501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501-05EC-41F1-B041-396B92A0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F9E3E-9780-46CC-97A0-6B562C65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4DA4-9268-421C-AD1A-84BD7AC7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11C44-111B-42C3-8105-BCA057A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991F-3BEF-496E-8BEA-FB082C85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7F2D-BB28-4781-8DA0-5985F9A4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6432A-FB3A-4B64-A569-63CA5472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41E08-5D07-4CD9-AA2E-AFD9CDDE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CB979-3E77-4CDA-AC6E-17E25380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3EECE-6C6C-47B1-888B-3F64B3F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34F3A-A5B1-468F-9AAE-9FBA17C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781-BBF4-4BFE-B034-A1889CC5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51E62-6B94-4615-BE38-D04516DC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8723-53E6-49C3-925C-BCB1889C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B3A5-E7DB-4BF8-8B0D-4EE9B7CB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BF426-AD17-4435-90FF-F3DB2ADF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D7F6A-A303-4C34-99EA-35DDA7CE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3227-F875-47F0-8FCE-B923CD45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F3F9C-40B5-4351-B8C5-203EF10C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12FBE-4315-4750-B5EA-47315505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0E226-50F7-41C6-94A9-A7652A19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F8BE1-73DE-44F3-A02F-99310B26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161-1D58-44D3-9304-7972C739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F6F74-835D-4461-8C90-B0E2EC83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0D830-5B65-45FA-ADC8-252861A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91FD6-32AD-4D8F-94CD-B14C5F12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EADB8-69BD-4AC5-9B0B-BA4B2114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EC777-0784-4199-95A8-D7BCAAD1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3C784-645A-47C8-90EE-DE98173A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68CD-8DB5-49F7-8A73-BA0F7DAA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426FB-4F81-42FF-B13F-7A221605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B3FCA-CA0E-45F5-9869-4A379876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BA2A2-80F4-46BB-84FD-1203A50B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A83-0432-484E-9B72-EFD93D4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E09B7-915D-448F-BCF5-57EE6AED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BC8E7-F853-4638-B223-F1EE9F2A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392AD-9983-454E-913E-BF9806FA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3CB6E-9677-4163-830F-367C14A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091CC-798F-427C-A599-8C17C027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07806-B95B-4D07-8BCB-931FAF16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815AB-BCE5-45B0-9A98-485A50A1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1FD2B-569B-4C93-A410-16F9BCEE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EFFF6-269B-4FE1-B81B-C9F4E74D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CB705-A56C-462E-9266-707CD7D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C97B-3180-4F5E-ADB4-4B0D1FCEE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6A72-5F8F-4223-BF88-4CBFBBCFE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4B9F-24E5-4489-B2F8-12A3A9A5D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836E-986B-44EF-BC86-3FA7724AF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98E6-A90A-4020-8EBF-C4D17B195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5F2E-F665-41CB-A962-9D48DED7E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FBE5-782F-41C5-9209-225B44F74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3840-ABD8-4CE0-9536-2CF76CBDA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F8AC-DDD5-4037-92EC-4A853DEF2D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DA00-045F-4973-BAE1-95AC30B67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F6DE-A495-4425-BC40-72D6DB2464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D56C-A4CE-4814-BC60-E880EC091A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914400" y="4724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R. MCFADDEN &amp; MR. RICHARD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GLOBAL STUDIES: 2008/20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04560" y="380520"/>
            <a:ext cx="5638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16349"/>
                </a:solidFill>
                <a:latin typeface="Georgia"/>
              </a:rPr>
              <a:t>A Tour of Morocco 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4" descr="mo-map.gif"/>
          <p:cNvPicPr/>
          <p:nvPr/>
        </p:nvPicPr>
        <p:blipFill>
          <a:blip r:embed="rId1"/>
          <a:stretch/>
        </p:blipFill>
        <p:spPr>
          <a:xfrm>
            <a:off x="5562720" y="685800"/>
            <a:ext cx="31334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La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Did you know Morocco is slightly larger than California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25:57Z</dcterms:created>
  <dc:creator>Ryan C. McFadden</dc:creator>
  <dc:description/>
  <dc:language>en-US</dc:language>
  <cp:lastModifiedBy>Ryan C. McFadden</cp:lastModifiedBy>
  <dcterms:modified xsi:type="dcterms:W3CDTF">2009-02-18T01:20:43Z</dcterms:modified>
  <cp:revision>1</cp:revision>
  <dc:subject/>
  <dc:title>A Tour of Morocco</dc:title>
</cp:coreProperties>
</file>